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dt" idx="2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B38E8-53BA-452C-AC08-60BCE260A5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755640" y="9550440"/>
            <a:ext cx="1058760" cy="2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980D9-E40E-476E-ABE9-A5AFADB44E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0" y="76356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8EED1-2524-45F1-AC6C-D987128A7B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F9324-3B38-4D5E-A086-E6B84A8ED6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B8652-00E8-46A3-BCB5-673C92BAFC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0" y="76356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95C86-C95D-4051-9642-581BB9F1AF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79400" y="4377960"/>
            <a:ext cx="50688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847800" y="612720"/>
            <a:ext cx="495144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F44DB-0774-49AF-9685-C6D3CAED81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79400" y="4377960"/>
            <a:ext cx="50688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847800" y="612720"/>
            <a:ext cx="495144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2F851-08D6-4553-A51E-02277DCBE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809FE-DD27-4DCC-8C6B-A92F2E7DD2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E1022-9FFC-48F2-A27B-E01BEAD750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79400" y="4377960"/>
            <a:ext cx="50688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847800" y="612720"/>
            <a:ext cx="495144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14E5E-DD92-4685-8E1A-A28E8D07A0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7C48B-FB59-4467-8831-E933BD0E99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16C1B-2D22-4235-B22C-B8BD56182F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E052-F58E-4C3F-AC76-575104CEE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7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50920"/>
            <a:ext cx="7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00F7-4821-41E3-850A-ACDAE568D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2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7F1D-542B-4DA1-9AB9-8B7654873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20" y="14875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00" y="14875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509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520" y="38509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00" y="38509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EDE4-E781-427E-8FFB-EBA437DE9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-102960"/>
            <a:ext cx="7920" cy="77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7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-992520"/>
            <a:ext cx="15840" cy="77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-102960"/>
            <a:ext cx="7920" cy="77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1B10-CB6A-4F21-B4CB-159F28F89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2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850920"/>
            <a:ext cx="7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7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3850920"/>
            <a:ext cx="7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32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0" y="14875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" y="14875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38509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520" y="38509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400" y="38509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-102960"/>
            <a:ext cx="7920" cy="77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7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7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EBE2-82DF-4B08-A168-84683AA46C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0" y="-992520"/>
            <a:ext cx="15840" cy="77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32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0" y="3850920"/>
            <a:ext cx="7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7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0" y="3850920"/>
            <a:ext cx="7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32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20" y="14875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00" y="14875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0" y="38509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520" y="38509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400" y="3850920"/>
            <a:ext cx="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BF6A-E2AD-49B5-B955-F6124EE06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2353-6649-4A8F-9EE3-65513FA3A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992520"/>
            <a:ext cx="15840" cy="77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DA30-0FA7-4401-B6ED-46EDDCE12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C368-0F9B-4622-828E-BC488C03E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5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20" y="38509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1AC4-A065-4AA0-A9BC-5BBE78941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4829760"/>
            <a:ext cx="15840" cy="11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50920"/>
            <a:ext cx="7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120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3610-F432-46CE-B4DB-C86226EB2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9200" y="704520"/>
            <a:ext cx="8228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0547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054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400" y="1860480"/>
            <a:ext cx="82278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272880">
              <a:lnSpc>
                <a:spcPct val="84000"/>
              </a:lnSpc>
              <a:spcAft>
                <a:spcPts val="1426"/>
              </a:spcAft>
              <a:buClr>
                <a:srgbClr val="517d9c"/>
              </a:buClr>
              <a:buSzPct val="45000"/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272880">
              <a:lnSpc>
                <a:spcPct val="84000"/>
              </a:lnSpc>
              <a:spcAft>
                <a:spcPts val="1426"/>
              </a:spcAft>
              <a:buClr>
                <a:srgbClr val="517d9c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80880" indent="-272880">
              <a:lnSpc>
                <a:spcPct val="84000"/>
              </a:lnSpc>
              <a:spcAft>
                <a:spcPts val="1426"/>
              </a:spcAft>
              <a:buClr>
                <a:srgbClr val="517d9c"/>
              </a:buClr>
              <a:buSzPct val="50000"/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80880" indent="-272880">
              <a:lnSpc>
                <a:spcPct val="84000"/>
              </a:lnSpc>
              <a:spcAft>
                <a:spcPts val="1426"/>
              </a:spcAft>
              <a:buClr>
                <a:srgbClr val="517d9c"/>
              </a:buClr>
              <a:buSzPct val="50000"/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80880" indent="-2728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50000"/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80880" indent="-2728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50000"/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8000" y="6494400"/>
            <a:ext cx="72072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GB" sz="900" spc="-1" strike="noStrike">
                <a:solidFill>
                  <a:srgbClr val="8b8d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62636-56A0-4922-9144-B1BCEFC52227}" type="slidenum">
              <a:rPr b="0" i="1" lang="en-GB" sz="900" spc="-1" strike="noStrike">
                <a:solidFill>
                  <a:srgbClr val="8b8d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119160" y="204480"/>
            <a:ext cx="20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-108000" y="1562040"/>
            <a:ext cx="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"/>
          </a:bodyPr>
          <a:p>
            <a:pPr marL="255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tarSymbo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tarSymbo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tarSymbo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06280"/>
            <a:ext cx="15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0" y="1487520"/>
            <a:ext cx="7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"/>
          </a:bodyPr>
          <a:p>
            <a:pPr marL="255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tarSymbo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tarSymbo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5560" indent="-19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tarSymbo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641840" y="3841920"/>
            <a:ext cx="43084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0547b"/>
                </a:solidFill>
                <a:latin typeface="Arial Bold"/>
              </a:rPr>
              <a:t>LAB-6808: Working with PDF and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636567"/>
                </a:solidFill>
                <a:latin typeface="Arial"/>
              </a:rPr>
              <a:t>Duane Nicku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36567"/>
                </a:solidFill>
                <a:latin typeface="Arial"/>
              </a:rPr>
              <a:t>Adobe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36567"/>
                </a:solidFill>
                <a:latin typeface="Arial"/>
              </a:rPr>
              <a:t>Sr. Technical Evange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136520" y="5346720"/>
            <a:ext cx="26528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eaker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ered below ph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8028000" y="6494400"/>
            <a:ext cx="7207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89E49-1FDA-4CE7-904A-8E2925C0F97B}" type="slidenum">
              <a:rPr b="0" i="1" lang="en-GB" sz="900" spc="-1" strike="noStrike">
                <a:solidFill>
                  <a:srgbClr val="8b8d9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9200" y="7045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20547b"/>
                </a:solidFill>
                <a:latin typeface="Arial"/>
              </a:rPr>
              <a:t>&lt;EXERCISE 4 INTRO SLIDE(S)&gt;</a:t>
            </a:r>
            <a:endParaRPr b="0" lang="en-US" sz="3600" spc="-1" strike="noStrike">
              <a:solidFill>
                <a:srgbClr val="20547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39760" y="18601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atever needs to be explained for thi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the exercise ab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additional things do they need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ep i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ore than 5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ore than 2 sl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extra info needs to be explained leave it at one slide telling what the exercise i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8028000" y="6494400"/>
            <a:ext cx="7207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48A4E-B02C-4AB4-BD74-38DEFF1BF3E1}" type="slidenum">
              <a:rPr b="0" i="1" lang="en-GB" sz="900" spc="-1" strike="noStrike">
                <a:solidFill>
                  <a:srgbClr val="8b8d9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9200" y="749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20547b"/>
                </a:solidFill>
                <a:latin typeface="Arial"/>
              </a:rPr>
              <a:t>Congratulations!</a:t>
            </a:r>
            <a:endParaRPr b="0" lang="en-US" sz="3600" spc="-1" strike="noStrike">
              <a:solidFill>
                <a:srgbClr val="2054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39760" y="186012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now have completed this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would like more time to continue working, please consider taking the lab exercises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cs containing all of the labs offered this year are available for you to take h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 save your work, please copy it to a USB drive or email it to your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lab guide will tell you where to get help with this lab after Java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nk you for attending this hands-on la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4254480" y="4264200"/>
            <a:ext cx="45608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707277"/>
                </a:solidFill>
                <a:latin typeface="Arial"/>
              </a:rPr>
              <a:t>Speaker Name, Arial 28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707277"/>
                </a:solidFill>
                <a:latin typeface="Arial"/>
              </a:rPr>
              <a:t>Speaker Contact Info, 22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707277"/>
                </a:solidFill>
                <a:latin typeface="Arial"/>
              </a:rPr>
              <a:t>Misc Info, 16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4845240"/>
            <a:ext cx="17640" cy="11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487520"/>
            <a:ext cx="4680" cy="10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20" y="1487520"/>
            <a:ext cx="4680" cy="10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98856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20547b"/>
                </a:solidFill>
                <a:latin typeface="Arial"/>
              </a:rPr>
              <a:t>Instructor-Led Hands-on Labs</a:t>
            </a:r>
            <a:endParaRPr b="0" lang="en-US" sz="3600" spc="-1" strike="noStrike">
              <a:solidFill>
                <a:srgbClr val="2054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39760" y="186012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ctor(s) will provide background for exercises``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s are self-p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rd-copy and online lab guides are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 suggested durations as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ise your hand at any time for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get the most out of the lab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he lab guide, especially the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on'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just copy and paste the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98856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20547b"/>
                </a:solidFill>
                <a:latin typeface="Arial"/>
              </a:rPr>
              <a:t>Housekeeping</a:t>
            </a:r>
            <a:endParaRPr b="0" lang="en-US" sz="3600" spc="-1" strike="noStrike">
              <a:solidFill>
                <a:srgbClr val="2054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9760" y="1860480"/>
            <a:ext cx="8229600" cy="31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fore you leave, </a:t>
            </a:r>
            <a:r>
              <a:rPr b="0" lang="en-GB" sz="2800" spc="-1" strike="noStrike">
                <a:solidFill>
                  <a:srgbClr val="e76f00"/>
                </a:solidFill>
                <a:latin typeface="Arial"/>
              </a:rPr>
              <a:t>plea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ill out a survey and hand it to someone before you le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GB" sz="2600" spc="-1" strike="noStrike">
                <a:solidFill>
                  <a:srgbClr val="e76f00"/>
                </a:solidFill>
                <a:latin typeface="Arial"/>
              </a:rPr>
              <a:t>reall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nt to know what you think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ease log out of your machine when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ease look around to make sure you have all of your belong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hard copies of the lab guides are yours to ke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8028000" y="6494400"/>
            <a:ext cx="7207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9EB28-DBEB-459A-9C96-4A1B955F5D35}" type="slidenum">
              <a:rPr b="0" i="1" lang="en-GB" sz="900" spc="-1" strike="noStrike">
                <a:solidFill>
                  <a:srgbClr val="8b8d9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9200" y="749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20547b"/>
                </a:solidFill>
                <a:latin typeface="Arial"/>
              </a:rPr>
              <a:t>&lt;INTRO SLIDES&gt;</a:t>
            </a:r>
            <a:endParaRPr b="0" lang="en-US" sz="3600" spc="-1" strike="noStrike">
              <a:solidFill>
                <a:srgbClr val="20547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39760" y="1860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atever needs to be expl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roduce the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t the stage for the exerci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ep it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ore than 20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ore than 8 sl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028000" y="6494400"/>
            <a:ext cx="7207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654F6-7E1F-414B-8B17-C60A14DBD7F7}" type="slidenum">
              <a:rPr b="0" i="1" lang="en-GB" sz="900" spc="-1" strike="noStrike">
                <a:solidFill>
                  <a:srgbClr val="8b8d9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749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20547b"/>
                </a:solidFill>
                <a:latin typeface="Arial"/>
              </a:rPr>
              <a:t>Exercises</a:t>
            </a:r>
            <a:endParaRPr b="0" lang="en-US" sz="3600" spc="-1" strike="noStrike">
              <a:solidFill>
                <a:srgbClr val="20547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39760" y="1860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76f00"/>
                </a:solidFill>
                <a:latin typeface="Arial"/>
              </a:rPr>
              <a:t>Exercise 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Making Love Out Of Nothing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cted duration: </a:t>
            </a:r>
            <a:r>
              <a:rPr b="0" lang="en-GB" sz="2600" spc="-1" strike="noStrike">
                <a:solidFill>
                  <a:srgbClr val="97b101"/>
                </a:solidFill>
                <a:latin typeface="Arial"/>
              </a:rPr>
              <a:t>20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76f00"/>
                </a:solidFill>
                <a:latin typeface="Arial"/>
              </a:rPr>
              <a:t>Exercise 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Livin' La Vita Lo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cted duration: </a:t>
            </a:r>
            <a:r>
              <a:rPr b="0" lang="en-GB" sz="2600" spc="-1" strike="noStrike">
                <a:solidFill>
                  <a:srgbClr val="97b101"/>
                </a:solidFill>
                <a:latin typeface="Arial"/>
              </a:rPr>
              <a:t>30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76f00"/>
                </a:solidFill>
                <a:latin typeface="Arial"/>
              </a:rPr>
              <a:t>Exercise 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Burning Down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cted duration: </a:t>
            </a:r>
            <a:r>
              <a:rPr b="0" lang="en-GB" sz="2600" spc="-1" strike="noStrike">
                <a:solidFill>
                  <a:srgbClr val="97b101"/>
                </a:solidFill>
                <a:latin typeface="Arial"/>
              </a:rPr>
              <a:t>30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76f00"/>
                </a:solidFill>
                <a:latin typeface="Arial"/>
              </a:rPr>
              <a:t>Exercise 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Walking in Memp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cted duration: </a:t>
            </a:r>
            <a:r>
              <a:rPr b="0" lang="en-GB" sz="2600" spc="-1" strike="noStrike">
                <a:solidFill>
                  <a:srgbClr val="97b101"/>
                </a:solidFill>
                <a:latin typeface="Arial"/>
              </a:rPr>
              <a:t>20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7045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20547b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2054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39760" y="1860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have not logged in, log in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name: </a:t>
            </a:r>
            <a:r>
              <a:rPr b="0" lang="en-GB" sz="2400" spc="-1" strike="noStrike">
                <a:solidFill>
                  <a:srgbClr val="5382a1"/>
                </a:solidFill>
                <a:latin typeface="Arial"/>
              </a:rPr>
              <a:t>&lt;LAB NUMB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sword: </a:t>
            </a:r>
            <a:r>
              <a:rPr b="0" lang="en-GB" sz="2400" spc="-1" strike="noStrike">
                <a:solidFill>
                  <a:srgbClr val="5382a1"/>
                </a:solidFill>
                <a:latin typeface="Arial"/>
              </a:rPr>
              <a:t>javaone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ine lab guide will open in a browser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necessary software and lab file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lready installed on your lab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from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e76f00"/>
                </a:solidFill>
                <a:latin typeface="Arial"/>
              </a:rPr>
              <a:t>exercis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8028000" y="6494400"/>
            <a:ext cx="7207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36CE8-2AC5-4594-896D-6BCACEEE409D}" type="slidenum">
              <a:rPr b="0" i="1" lang="en-GB" sz="900" spc="-1" strike="noStrike">
                <a:solidFill>
                  <a:srgbClr val="8b8d9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9200" y="7045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20547b"/>
                </a:solidFill>
                <a:latin typeface="Arial"/>
              </a:rPr>
              <a:t>&lt;EXERCISE 1 INTRO SLIDE(S)&gt;</a:t>
            </a:r>
            <a:endParaRPr b="0" lang="en-US" sz="3600" spc="-1" strike="noStrike">
              <a:solidFill>
                <a:srgbClr val="2054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39760" y="18601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atever needs to be explained for thi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the exercise ab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additional things do they need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ep i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ore than 5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ore than 2 sl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extra info needs to be explained leave it at one slide telling what the exercise i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028000" y="6494400"/>
            <a:ext cx="7207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722D8-8A61-407B-BE56-E1EA1EA9FBA7}" type="slidenum">
              <a:rPr b="0" i="1" lang="en-GB" sz="900" spc="-1" strike="noStrike">
                <a:solidFill>
                  <a:srgbClr val="8b8d9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9200" y="7045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20547b"/>
                </a:solidFill>
                <a:latin typeface="Arial"/>
              </a:rPr>
              <a:t>&lt;EXERCISE 2 INTRO SLIDE(S)&gt;</a:t>
            </a:r>
            <a:endParaRPr b="0" lang="en-US" sz="3600" spc="-1" strike="noStrike">
              <a:solidFill>
                <a:srgbClr val="20547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9760" y="18601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atever needs to be explained for thi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the exercise ab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additional things do they need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ep i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ore than 5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ore than 2 sl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extra info needs to be explained leave it at one slide telling what the exercise i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8028000" y="6494400"/>
            <a:ext cx="7207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19AC7-C51B-4DD9-8FD1-A95E6D935F0A}" type="slidenum">
              <a:rPr b="0" i="1" lang="en-GB" sz="900" spc="-1" strike="noStrike">
                <a:solidFill>
                  <a:srgbClr val="8b8d9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9200" y="7045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20547b"/>
                </a:solidFill>
                <a:latin typeface="Arial"/>
              </a:rPr>
              <a:t>&lt;EXERCISE 3 INTRO SLIDE(S)&gt;</a:t>
            </a:r>
            <a:endParaRPr b="0" lang="en-US" sz="3600" spc="-1" strike="noStrike">
              <a:solidFill>
                <a:srgbClr val="2054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39760" y="18601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atever needs to be explained for thi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the exercise ab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additional things do they need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ep i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ore than 5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ore than 2 sl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extra info needs to be explained leave it at one slide telling what the exercise i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>
              <a:lnSpc>
                <a:spcPct val="8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e Kim</dc:creator>
  <dc:description>Onsite breakout presentation support by Reaction Graphics LLC, www.reactiongraphics.com</dc:description>
  <dc:language>en-US</dc:language>
  <cp:lastModifiedBy>Duane Nickull</cp:lastModifiedBy>
  <dcterms:modified xsi:type="dcterms:W3CDTF">2009-04-14T20:01:13Z</dcterms:modified>
  <cp:revision>1</cp:revision>
  <dc:subject/>
  <dc:title>09J1 template, Impress9</dc:title>
</cp:coreProperties>
</file>